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ftr" idx="31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FB9-C5F4-4D04-A148-2ADB35ECA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AF3-1CB8-4FF4-BBF6-CCA0A1D862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BC0-F1AF-460A-9341-1BCF67481B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7CD2-4E48-4EE0-9805-C0F13C70AB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8FE0-FB80-43F7-A4E6-5E62636A7B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D170-1FE7-49BA-837C-03142A4006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F4E-1378-48BB-AF52-A2066E6F4F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ABA-006A-4D4A-8D6C-A297809D7C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C1D-DD29-4E4C-BE65-C2662FBA27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11E-837F-4A47-8B0E-DE933CB890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1623-62D7-48F8-A6CE-81160017F7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711-B225-4A82-AC29-EF6D802162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49D3-F098-4663-B7EA-C1BA6AF9AE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96F2-874E-42AA-9722-EB4DD061E8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B8D9-D2B3-42B3-92C4-E875A28E25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C72-DDED-4ACD-BDC0-BBC9356C10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F08-2CD8-46FD-B23C-DAE453F4D7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87A6-3D70-4F8C-8397-E598FB9EF3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A01E-E3D0-4246-B626-09FC99F2D8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846-4DD5-4BC0-AA75-BE2408AA33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C92F-44F0-4715-8DCE-763A7E328E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F49-529F-4FD5-9FF8-72E212BF30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16D-8B00-4BEE-8A70-62C9A8ADE0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C43-E1E3-484F-9DEF-60742F6717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6EC-A6E3-4AF3-ABCC-566460CD2C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E6AD-5AC0-48D2-B041-0DF4477E2F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01A-C691-4B6F-9B2D-8367104C8B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D36-011F-48AE-A324-FCB02EEC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39A-ED68-4DB8-B178-5FFB0DD1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A4F22-D8DC-4E77-AE07-850EDDD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D560E-EEFD-472B-8AB5-46BE5025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FC9B4-41B6-49F5-A73F-7B8C12C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15AE8-24BC-45BA-A294-26041F8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1A1EB-D375-47B3-80C0-79BCF4D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6AC0D-E002-468E-BCCF-1EC7F38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FD92B-79B8-40F9-9BE8-8F187CDA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E8A41-FC8D-4EAB-A394-30BFD71D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16D73-E334-455D-9DCF-BA74DF30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60E37-772C-4ACD-A86E-225AF0B7C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8EB-6B6B-4316-940C-9E974FE6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8AEFE-F3A1-4BD1-AB75-6AC08F6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F37B1-0DB5-413A-819A-58D8224C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8255-25C4-4127-B3DD-D8DA2AD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ECEE-A815-4D78-B960-D48817CA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1D9F-4B92-48C6-9C2A-960B7C4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06018-58D0-484E-83B3-F1178F2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0E09E-8F06-423D-8ADF-636E9B21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839AA-6AAD-4931-BCA3-26AAFEE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56738-E75A-47B9-B51C-E56939A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175D-F7C2-4DF3-A970-13AA5C9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FE1-63BC-469A-9114-151BAC77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B68DC-3402-46E1-A38D-CA82242B4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14C99-E208-4A77-8501-0BED6A296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27FBD4-6D2D-41EB-80F8-CA79409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635736-AC74-4B7D-868B-8508432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5DC71-9F44-4CB0-8614-8310690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43ADB4-9E2C-4EBC-99D3-DBD0AD7E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FF9CD4-2A02-4EF4-8803-11D72141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40CC4-ECE4-4BEE-98CD-B2934856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F26183-7A6A-4533-860C-A7D689ED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4595E-D265-4F75-A420-64FD2EB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2C85B6-327E-4BA8-9E51-1BDFF38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997D57-8E21-4678-92C8-3A9E916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5E592D-4B12-4C30-9D6A-169613692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32D-F1B2-4E63-B704-003DB75A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1F3-E2A1-4E2E-93FE-4CB0527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50DA9-1364-4A12-AAD6-80513E03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99B32-ADB1-414C-81E9-CC80381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4E6B1-F086-4DB5-AE0A-9B23AA9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A66-EFA7-489B-A347-9149FA3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4AFAC4-307C-40B1-B129-191A35B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531C2-2913-4C79-BDEC-1C6F73C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F10F1-A776-4ECD-AA5A-7667F45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373EE-6B5C-4661-A1C5-5D09A56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AD603-6318-44A5-BF44-F9FF54D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03BB1-4A29-43AC-B467-4413103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88831-3B99-4ADE-A68B-CB79496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66B6B-A5BB-4D01-AC6A-1DE67320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D9E73-0886-4A92-B3AF-6FC8E9D0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EE0371-4355-4652-9844-CB98F744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BD7-C0A2-4936-A7BE-68A62C6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12842-4622-482D-B91A-8DE8F7A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E38D6-E33A-4C72-95E7-E27241B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39293-BBB6-432A-A614-61D76FE3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7A6877-4606-4DB3-AB81-3402F04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A1B194-A2F9-4ACC-9325-AFA57D8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E61A7-83F2-4645-8A78-8A4C01F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D6AD6-6913-41A4-B224-505D6C9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53F06-50E0-4021-8E5E-03117BE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FD20E-8C76-4834-93FC-98C61BB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27A24-EF34-47AE-A455-11147AE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26A-7FCD-4EAE-8DF7-BEB289CF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95196-A330-491F-AD0B-DC1B6E6E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8F4376-3ADB-43D8-A904-1423AEA2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8D988-0017-4C59-B151-2CE3AA5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82F02-CBC1-4A10-9411-7E16285A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B1954-1A5E-4E91-9D88-90773D4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2C755-1837-497E-A078-9366FED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7881F-5E21-4679-8EDF-C3B58B3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C3C47-CA71-41BA-B4FC-4F09393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FB444-D8CA-4D50-B79D-066276D3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B4BA44-8889-4F4C-9652-DAE0646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086-841F-4DA9-A27F-C1A42F6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8C02C-66D3-4696-A626-BD75D312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65D18-31B5-4BA1-B610-D222E285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C299D-67B0-4EFA-B53C-17AF580A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F582C1-DF28-4FBC-A816-05F9771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40AFC3-1894-4BB8-8354-409B3F88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C6609-D7EC-499B-A7C0-7F99BD6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E230D1-AA87-4F77-BEB1-184EC966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5571BC-01ED-475F-A597-338FB1F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B5CDC-7CEB-42F5-8397-99C2054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9409A-5DC6-495D-949F-FC5AD7A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405-0B8C-4B51-98AB-8667953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45552-15A7-4A81-A309-5D3CCEE8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095F1-4BEE-4657-B71D-ED0E65D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F1666-8DBE-4F5D-8805-C4E40EA3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A0A88-42B0-4663-AE2F-0D7EEC6D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99BC8-4459-4DC7-9511-C429AA62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EFE89-56B7-45C7-A831-03A94751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C4979-BFCD-485B-9BFE-077ED7C1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395B1-DF01-4B3C-8EA9-B626CC06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BEBC9-90D0-4533-9045-14C3829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1B7139-2643-4485-983F-2F681C8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5EB-DA74-4461-B869-185EB27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A76C5-0B35-4066-9EC2-6B3D684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4BD46-20E1-4483-B8EF-544C67D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642DC-3D9C-4D58-892C-C4CC90B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C6B43-F754-4897-B184-6FF05CA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D3D95-6C26-4E77-85D2-DB62072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BCE59F-CA1C-4239-BDD9-C6A46044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CCCAC-86F6-46C0-AE19-3168F869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065AF-4B68-4E03-B6F8-77C5B271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147F0-8741-44EC-BF73-CD21D5BD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F4969-AA4D-4018-A3FB-EB5544B1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BFB-7D5F-4E6E-8A32-E1A7A3B07A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626-E5D2-4734-8E15-731BC4481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F78-385E-4215-9B9C-5C197BBC2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5E67-AA4A-4347-AA32-F8D73321F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492-4C23-4E95-9711-5D84FC2914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6370-1DC4-429D-ABD2-D5B09FABEF51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A08-7E5D-45A1-8100-119490584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6EBC-3CF1-4D3F-85C0-15DC7BB47B1D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F47-6866-4F89-8216-CB9F11065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94431"/>
                </a:solidFill>
                <a:latin typeface="Comic Sans MS"/>
              </a:rPr>
              <a:t>Evolution</a:t>
            </a:r>
            <a:endParaRPr b="0" lang="en-US" sz="8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5238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Diversity of Lif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843-6293-4302-AB7A-B72919ADF22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Common Descent with Modification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arwin proposed that organisms descended from common ances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a that organisms change with time, diverging from a common fo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uses the evolution of new speci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3E8E-2302-45D8-939C-B8E53FD01D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Picture 7" descr="http://www.tokresource.org/tok_classes/biobiobio/biomenu/options_folder/D2_speciation/gradualism_better.gif"/>
          <p:cNvPicPr/>
          <p:nvPr/>
        </p:nvPicPr>
        <p:blipFill>
          <a:blip r:embed="rId1"/>
          <a:stretch/>
        </p:blipFill>
        <p:spPr>
          <a:xfrm>
            <a:off x="5029200" y="2362320"/>
            <a:ext cx="38098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riving force for ev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uring the struggle for resources, the fittest survive &amp; reprodu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a that at least some of the differences between individuals, which impact their survival and fertility, are inheritab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5B94-39A9-49BE-BEAC-AE477D3693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175248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15E-671D-41CD-A825-9DC6650D2B7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5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C:\Users\Alex\Desktop\Batch 4\Art\Art 3_18_09+\BIO10NAE_05_16_04_005_LRIM_05.png"/>
          <p:cNvPicPr/>
          <p:nvPr/>
        </p:nvPicPr>
        <p:blipFill>
          <a:blip r:embed="rId2"/>
          <a:stretch/>
        </p:blipFill>
        <p:spPr>
          <a:xfrm>
            <a:off x="2209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C:\Users\Alex\Desktop\Batch 4\Art\Art 3_18_09+\BIO10NAE_05_16_04_005_LRIM_06.png"/>
          <p:cNvPicPr/>
          <p:nvPr/>
        </p:nvPicPr>
        <p:blipFill>
          <a:blip r:embed="rId3"/>
          <a:stretch/>
        </p:blipFill>
        <p:spPr>
          <a:xfrm>
            <a:off x="4495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Users\Alex\Desktop\Batch 4\Art\Art 3_18_09+\BIO10NAE_05_16_04_005_LRIM_07.png"/>
          <p:cNvPicPr/>
          <p:nvPr/>
        </p:nvPicPr>
        <p:blipFill>
          <a:blip r:embed="rId4"/>
          <a:stretch/>
        </p:blipFill>
        <p:spPr>
          <a:xfrm>
            <a:off x="6780240" y="1905120"/>
            <a:ext cx="236376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A1D-62DD-4928-B27C-1D90E901D95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1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46864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037-57C0-4DD9-9B8B-AC5EDDFFEA5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4" name="Picture 2" descr="C:\Users\Alex\Desktop\Batch 4\Art\Art 3_18_09+\BIO10NAE_05_16_04_005_LRIM_05.png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4863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76CB-7684-49A3-9F03-DC8268023A4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7" name="Picture 2" descr="C:\Users\Alex\Desktop\Batch 4\Art\Art 3_18_09+\BIO10NAE_05_16_04_005_LRIM_06.png"/>
          <p:cNvPicPr/>
          <p:nvPr/>
        </p:nvPicPr>
        <p:blipFill>
          <a:blip r:embed="rId1"/>
          <a:stretch/>
        </p:blipFill>
        <p:spPr>
          <a:xfrm>
            <a:off x="2666880" y="1905120"/>
            <a:ext cx="3886200" cy="45100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F0C-0A3A-49B0-A794-1300BBF0205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0" name="Picture 2" descr="C:\Users\Alex\Desktop\Batch 4\Art\Art 3_18_09+\BIO10NAE_05_16_04_005_LRIM_07.png"/>
          <p:cNvPicPr/>
          <p:nvPr/>
        </p:nvPicPr>
        <p:blipFill>
          <a:blip r:embed="rId1"/>
          <a:stretch/>
        </p:blipFill>
        <p:spPr>
          <a:xfrm>
            <a:off x="2743200" y="1828800"/>
            <a:ext cx="4005360" cy="46483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3A6-4ABF-42E9-97ED-244CEB43046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3" descr="C:\Users\Alex\Desktop\Batch 4\Art\Art 3_18_09+\BIO10NAE_05_16_04_005_LRIM_04.png"/>
          <p:cNvPicPr/>
          <p:nvPr/>
        </p:nvPicPr>
        <p:blipFill>
          <a:blip r:embed="rId1"/>
          <a:stretch/>
        </p:blipFill>
        <p:spPr>
          <a:xfrm>
            <a:off x="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Alex\Desktop\Batch 4\Art\Art 3_18_09+\BIO10NAE_05_16_04_005_LRIM_05.png"/>
          <p:cNvPicPr/>
          <p:nvPr/>
        </p:nvPicPr>
        <p:blipFill>
          <a:blip r:embed="rId2"/>
          <a:stretch/>
        </p:blipFill>
        <p:spPr>
          <a:xfrm>
            <a:off x="2209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C:\Users\Alex\Desktop\Batch 4\Art\Art 3_18_09+\BIO10NAE_05_16_04_005_LRIM_06.png"/>
          <p:cNvPicPr/>
          <p:nvPr/>
        </p:nvPicPr>
        <p:blipFill>
          <a:blip r:embed="rId3"/>
          <a:stretch/>
        </p:blipFill>
        <p:spPr>
          <a:xfrm>
            <a:off x="4495680" y="1905120"/>
            <a:ext cx="236376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:\Users\Alex\Desktop\Batch 4\Art\Art 3_18_09+\BIO10NAE_05_16_04_005_LRIM_07.png"/>
          <p:cNvPicPr/>
          <p:nvPr/>
        </p:nvPicPr>
        <p:blipFill>
          <a:blip r:embed="rId4"/>
          <a:stretch/>
        </p:blipFill>
        <p:spPr>
          <a:xfrm>
            <a:off x="6780240" y="1905120"/>
            <a:ext cx="2363760" cy="27432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1"/>
          <p:cNvSpPr/>
          <p:nvPr/>
        </p:nvSpPr>
        <p:spPr>
          <a:xfrm>
            <a:off x="1948320" y="762120"/>
            <a:ext cx="548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tural Se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880" y="2070000"/>
            <a:ext cx="8382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pon his return to England, Darwin developed his observations into the Theory of Evol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t he didn’t publish for 25 Year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 you think he waited so long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14E-C1A1-4C05-85E3-645D15C71A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rwin knew that his theory would be extremely controversial and would be attack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is theory challenged established religious &amp; scientific beliefs, particularly about the creation of ma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2F2F-C15F-4543-829D-67C6F76DAA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B55-D6F5-4C12-9679-F48CBABAB3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533520" y="838080"/>
            <a:ext cx="38098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Nothing in biology makes sense EXCEPT in the light of evolution.</a:t>
            </a: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”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83500"/>
                </a:solidFill>
                <a:latin typeface="Comic Sans MS"/>
              </a:rPr>
              <a:t>Theodosius Dobzhans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623040" y="1522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g2"/>
          <p:cNvPicPr/>
          <p:nvPr/>
        </p:nvPicPr>
        <p:blipFill>
          <a:blip r:embed="rId1"/>
          <a:srcRect l="15154" t="4224" r="12126" b="20226"/>
          <a:stretch/>
        </p:blipFill>
        <p:spPr>
          <a:xfrm>
            <a:off x="4572000" y="76212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4093200" y="61722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rles Darwin in later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6477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 refused to publish until he received an essay from Alfred Walla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ellow natura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ependently developed the same theory as Darw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fter 25 years, someone else had come to the same conclusions from their observations of na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16" name="Picture 4" descr="wallace"/>
          <p:cNvPicPr/>
          <p:nvPr/>
        </p:nvPicPr>
        <p:blipFill>
          <a:blip r:embed="rId1"/>
          <a:stretch/>
        </p:blipFill>
        <p:spPr>
          <a:xfrm>
            <a:off x="6534000" y="1600200"/>
            <a:ext cx="2394000" cy="320040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48D-1D8B-4913-BC47-83D57F9918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Wallace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  <a:ea typeface="MS Mincho"/>
              </a:rPr>
              <a:t>’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s Contrib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ependently came to same conclusion as Darwin that species changed over time because of their struggle for exis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en Darwin read Wal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 essay, he knew he had to publish his findi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rcRect l="0" t="8999" r="0" b="8999"/>
          <a:stretch/>
        </p:blipFill>
        <p:spPr>
          <a:xfrm>
            <a:off x="6483240" y="2286000"/>
            <a:ext cx="2346480" cy="274320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6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C13-6360-4001-9110-06E42F5F80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Publication of 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“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On The Origin of Species</a:t>
            </a:r>
            <a:r>
              <a:rPr b="1" lang="en-US" sz="4000" spc="-1" strike="noStrike">
                <a:solidFill>
                  <a:srgbClr val="194431"/>
                </a:solidFill>
                <a:latin typeface="Comic Sans MS"/>
                <a:ea typeface="MS Mincho"/>
              </a:rPr>
              <a:t>”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arwin Presented Wal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 Essay &amp; Some Of His Work At A Scientific Conference of the Linnaean Society in July of 185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n he finished his book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igin of Spec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MS Mincho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took Darwin 18 months to complete 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F9F-B2EA-4F59-8D77-116983E3C6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Natural Variation and Artificial Selection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bandoned the idea that species were perfect &amp; unchang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bserved significant variation in all spe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858-4B86-4EBE-84D9-C21BF98298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4431"/>
                </a:solidFill>
                <a:latin typeface="Comic Sans MS"/>
              </a:rPr>
              <a:t>Evolution By Natural Selection Concepts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ruggle for Existence (compete for food, mates, space, water, etc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rvival of the Fittest (best adapted are able to survive and reproduc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scent with Modification (new species arise from common ancestor replacing less fit specie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C4DD-33F0-4A88-B5BE-E2290F68C0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urvival of the Fitt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tnes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bility of an individual to survive &amp; reprodu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herited characteristic that increases an organism’s chance for surviv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B25F-40D8-4030-BD95-BA56ED029E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urvival of the Fitt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aptations Can Be: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ysica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ed, Camouflage, Claws, Quills, et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haviora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itary, Herds, Packs, Activity, et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AC4-221E-4B9A-B95D-469CD18846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at role does nature play in artificial selection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How did Charles Darwin apply  Malthus’ idea to nature?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 your own words describe what the term adaptive radiation means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at is meant by the term struggle for existance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istinguish between the terms fitness and adaptation. How are these terms related to each other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A female frog lays hundreds of eggs when it reproduces. Will all of these eggs develop into mature frogs? Explain your answer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escribe the conditions under which natural selection occurs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plain the principle of common descent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4:19:25Z</dcterms:created>
  <dc:creator>Cheryl Massengale</dc:creator>
  <dc:description/>
  <dc:language>en-US</dc:language>
  <cp:lastModifiedBy>dzahm</cp:lastModifiedBy>
  <dcterms:modified xsi:type="dcterms:W3CDTF">2013-10-25T14:44:13Z</dcterms:modified>
  <cp:revision>180</cp:revision>
  <dc:subject/>
  <dc:title>15-1 The Puzzle of Life’s Diversity</dc:title>
</cp:coreProperties>
</file>